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Digest Food?</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estive system is a series of hollow organs joined in a long, twisting tube from the mouth to the anus. Inside this tube is a lining called the mucosa. In the mouth, stomach, and small intestine, the mucosa contains tiny glands that produce juices to help digest food. There are also two solid digestive organs, the liver and the pancreas, which produce juices that reach the intestine through small tubes. In addition, parts of other organ systems (for instance, nerves and blood) play a major role in the digestiv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the digestive system is to break down, or digest, the food we eat. Food is made up of large, complex molecules, which the digestive system breaks down into smaller, simple molecules that can be absorbed into the bloodstrea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os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st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stal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olv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digestive system consist o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mucos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f the digestiv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wo phases are involved in the process of 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n the chemical ph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process of diges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mechanical tasks must the stomach d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peristal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factors affect emptying of the stom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 digested nutrients absorb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antonyms for each of the following words:</a:t>
            </a:r>
            <a:endParaRPr b="0" lang="en-US" sz="24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n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synonyms for each of the following words:</a:t>
            </a:r>
            <a:endParaRPr b="0" lang="en-US" sz="2400" spc="-1" strike="noStrike">
              <a:solidFill>
                <a:srgbClr val="000000"/>
              </a:solidFill>
              <a:latin typeface="Arial"/>
            </a:endParaRPr>
          </a:p>
        </p:txBody>
      </p:sp>
      <p:sp>
        <p:nvSpPr>
          <p:cNvPr id="50"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i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ll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t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 phrasal verbs in column A with the corresponding meaning in column B:</a:t>
            </a:r>
            <a:endParaRPr b="0" lang="en-US" sz="2400" spc="-1" strike="noStrike">
              <a:solidFill>
                <a:srgbClr val="000000"/>
              </a:solidFill>
              <a:latin typeface="Arial"/>
            </a:endParaRPr>
          </a:p>
        </p:txBody>
      </p:sp>
      <p:sp>
        <p:nvSpPr>
          <p:cNvPr id="52" name=""/>
          <p:cNvSpPr txBox="1"/>
          <p:nvPr/>
        </p:nvSpPr>
        <p:spPr>
          <a:xfrm>
            <a:off x="457200" y="2287080"/>
            <a:ext cx="8229600" cy="45262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B</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on                                         to regain consciousn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round                                    to cause to suffer anxiety and pai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through                                 to begin suddenly</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ing up                                         to suffer poor health</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down                                    to cause an illnes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out                                       to save life of someone very il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of                                         to be sick; vomi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 up                                        to cure someone of a bad habi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 with a phrasal verb from the list above:</a:t>
            </a:r>
            <a:endParaRPr b="0" lang="en-US" sz="2400" spc="-1" strike="noStrike">
              <a:solidFill>
                <a:srgbClr val="000000"/>
              </a:solidFill>
              <a:latin typeface="Arial"/>
            </a:endParaRPr>
          </a:p>
        </p:txBody>
      </p:sp>
      <p:sp>
        <p:nvSpPr>
          <p:cNvPr id="54"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tors keep trying to......................his dependence on the dru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pidemic of flu...........................two month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is mother was seriously ill, the doctors succeeded 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 can’t come, she’s been.............................all mo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n may...........................under that trou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 has fainted, try t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health will................................if you work too h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dden cold weather.........................his fever aga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Улцеративни колитис и Кронова болест имају сличне симптоме, укључујући хроничну (евентуално крваву) дијареју, грчеве у стомаку, замор, губитак телесне тежине и понекад грозницу. Међутим, ове две болести имају донекле различито порекло. Једноставно речено, колитис је запаљење дебелог црева, док до запаљења које карактерише Кронову болест може да дође било где у интестиналном тракту. Лекари у принципу лече све врсте запаљења црева кортикостероидима, лековима који понекад  сузбијају запаљење, али имају нежељена дејства која се тешко подносе и могу да укључују акне, замућен вид и пораст телесне тежине.</a:t>
            </a:r>
            <a:r>
              <a:rPr b="0" lang="sr-RS" sz="2000" spc="-1" strike="noStrike">
                <a:solidFill>
                  <a:srgbClr val="000000"/>
                </a:solidFill>
                <a:latin typeface="Arial"/>
              </a:rPr>
              <a:t> Кортикостероиди могу такође да изазову гастроинтестиналне симптоме, које је понекад тешко разликовати од симптома запаљења црева. Већина људи који имају запаљење црева постају раздражљиви и депресивни због то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9T11:19:35Z</dcterms:modified>
  <cp:revision>15</cp:revision>
  <dc:subject/>
  <dc:title>Slide 1</dc:title>
</cp:coreProperties>
</file>